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B9D-10BF-4DCE-8B38-05206427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DD5-5BC0-48F6-88D6-7BD1A721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DEB-35FB-4ACE-9E6F-777C308D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F2E-86D2-4BD9-AC92-E00077C6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ED3-4424-426C-A4AA-33BB5B93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66E-34CE-4457-B48D-51D8D7D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EED8-E27F-46D1-AD89-C796295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589A-D19F-4651-9573-19A03110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778-365F-49F8-8AEC-F979BDF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9BCD-2FC3-47A5-82CA-0F5046BB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587C-21FC-4E29-A12F-EACE0CC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33D-F8C1-45E6-A775-53BE70D7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9D90-465C-4515-855D-AB9049B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E9D1-DB14-41D3-AE7F-5BDEA26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77B-3E46-4495-B201-58031DDE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7BE0-F1FB-4AD7-ACF6-80EC0D1F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EA2B-ECE7-4514-A39B-388AF88A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6B4C-19EE-44F0-9FC2-CF8D9008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BA09-AD65-45EC-8921-B1642EA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DEE6-DCAA-444E-83ED-35A5954B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D954-FE93-4B85-B5D5-981B18B7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8698-8531-435A-8F93-798EB68E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66D-52D8-4487-96A1-ABDBD22A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27CB-54AC-4D9B-BFAF-3B7254AD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EEC7-70C0-43FF-B9C2-113F991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EC10-661D-4056-A925-3C5274E8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A84A-2976-4F68-9484-CF5908A7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4C1E-EE16-4DC9-B288-AB5E38DF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651A-C968-411A-85C0-620FCA06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218F-46E5-4E6E-A36A-352C3BF1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51D-BB60-4482-A205-E299E261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805-DEAA-4EB8-88C7-30A90513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7AE-F0C6-4860-B2F2-DA30BFCD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B97-91F5-46E2-8C1B-611082BB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1A6-C857-4E10-80D3-A38D5A89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CDE-4AE0-4ABE-869B-1E7E67F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A577-F28F-49D1-AB48-025FD1B7E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94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9036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9814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c6f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4610-30F6-4470-A04B-6E4219926A98}" type="slidenum">
              <a:rPr b="0" lang="zh-CN" sz="1200" spc="-1" strike="noStrike">
                <a:solidFill>
                  <a:srgbClr val="6c6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63B6-8039-4340-A02E-27A33B6473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1280" y="1486080"/>
            <a:ext cx="43927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一个梦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唤醒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71280" y="4005000"/>
            <a:ext cx="36594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8550"/>
                </a:solidFill>
                <a:latin typeface="楷体_GB2312"/>
                <a:ea typeface="楷体_GB2312"/>
              </a:rPr>
              <a:t>棠外附小  冯文</a:t>
            </a:r>
            <a:endParaRPr b="0" lang="en-US" sz="24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1440" y="117360"/>
            <a:ext cx="76309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无尽的梦</a:t>
            </a:r>
            <a:br>
              <a:rPr sz="2800"/>
            </a:b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</a:t>
            </a:r>
            <a:r>
              <a:rPr b="0" lang="zh-CN" sz="2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冯文</a:t>
            </a:r>
            <a:endParaRPr b="0" lang="en-US" sz="2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260360"/>
            <a:ext cx="82915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叶子的梦是一条小船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装满了它的奇思妙想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小溪推着它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鱼儿呵护它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飘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想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飘到遥远的地方</a:t>
            </a:r>
            <a:r>
              <a:rPr b="0" lang="en-US" sz="28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幼圆"/>
                <a:ea typeface="楷体"/>
              </a:rPr>
              <a:t>合作创编儿童诗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480" y="1026720"/>
            <a:ext cx="8040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835360" y="130320"/>
            <a:ext cx="41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幼圆"/>
                <a:ea typeface="楷体"/>
              </a:rPr>
              <a:t>实现诗人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480" y="1375920"/>
            <a:ext cx="63403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385c"/>
                </a:solidFill>
                <a:latin typeface="幼圆"/>
              </a:rPr>
              <a:t>以“梦”为主题写一首儿童诗：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3" name=""/>
          <p:cNvSpPr/>
          <p:nvPr/>
        </p:nvSpPr>
        <p:spPr>
          <a:xfrm>
            <a:off x="1150920" y="2639880"/>
            <a:ext cx="5365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语言凝练，语句优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格式正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书写美观、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1.倒映的彩色蜡笔画~雕塑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6453360"/>
            <a:ext cx="360360" cy="50472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504720"/>
              <a:gd name="textAreaBottom" fmla="*/ 482400 h 504720"/>
            </a:gdLst>
            <a:ahLst/>
            <a:rect l="textAreaLeft" t="textAreaTop" r="textAreaRight" b="textAreaBottom"/>
            <a:pathLst>
              <a:path w="21600" h="30244">
                <a:moveTo>
                  <a:pt x="0" y="0"/>
                </a:moveTo>
                <a:lnTo>
                  <a:pt x="21600" y="0"/>
                </a:lnTo>
                <a:lnTo>
                  <a:pt x="21600" y="30244"/>
                </a:lnTo>
                <a:lnTo>
                  <a:pt x="0" y="30244"/>
                </a:lnTo>
                <a:close/>
              </a:path>
              <a:path fill="lightenLess" w="21600" h="3024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4">
                <a:moveTo>
                  <a:pt x="21600" y="0"/>
                </a:moveTo>
                <a:lnTo>
                  <a:pt x="21600" y="30244"/>
                </a:lnTo>
                <a:lnTo>
                  <a:pt x="20250" y="28894"/>
                </a:lnTo>
                <a:lnTo>
                  <a:pt x="20250" y="1350"/>
                </a:lnTo>
                <a:close/>
              </a:path>
              <a:path fill="darkenLess" w="21600" h="30244">
                <a:moveTo>
                  <a:pt x="21600" y="30244"/>
                </a:moveTo>
                <a:lnTo>
                  <a:pt x="0" y="30244"/>
                </a:lnTo>
                <a:lnTo>
                  <a:pt x="1350" y="28894"/>
                </a:lnTo>
                <a:lnTo>
                  <a:pt x="20250" y="28894"/>
                </a:lnTo>
                <a:close/>
              </a:path>
              <a:path fill="lighten" w="21600" h="30244">
                <a:moveTo>
                  <a:pt x="0" y="30244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4"/>
                </a:lnTo>
                <a:close/>
              </a:path>
              <a:path fill="darken" w="21600" h="30244">
                <a:moveTo>
                  <a:pt x="14318" y="15122"/>
                </a:moveTo>
                <a:lnTo>
                  <a:pt x="3756" y="22166"/>
                </a:lnTo>
                <a:lnTo>
                  <a:pt x="3756" y="8078"/>
                </a:lnTo>
                <a:close/>
              </a:path>
              <a:path fill="darken" w="21600" h="30244">
                <a:moveTo>
                  <a:pt x="16173" y="8078"/>
                </a:moveTo>
                <a:lnTo>
                  <a:pt x="16173" y="22166"/>
                </a:lnTo>
                <a:lnTo>
                  <a:pt x="17844" y="22166"/>
                </a:lnTo>
                <a:lnTo>
                  <a:pt x="17844" y="8078"/>
                </a:lnTo>
                <a:close/>
              </a:path>
            </a:pathLst>
          </a:custGeom>
          <a:solidFill>
            <a:srgbClr val="f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7274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-88920"/>
            <a:ext cx="9144000" cy="6959520"/>
          </a:xfrm>
          <a:prstGeom prst="rect">
            <a:avLst/>
          </a:prstGeom>
          <a:solidFill>
            <a:srgbClr val="e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4"/>
          <p:cNvSpPr/>
          <p:nvPr/>
        </p:nvSpPr>
        <p:spPr>
          <a:xfrm rot="9523800">
            <a:off x="3813120" y="991800"/>
            <a:ext cx="1596960" cy="181620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1927080" y="313200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THANKS TO 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1927080" y="370188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谢谢大家聆听</a:t>
            </a: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>
            <a:off x="2136600" y="3676680"/>
            <a:ext cx="4896000" cy="0"/>
          </a:xfrm>
          <a:prstGeom prst="line">
            <a:avLst/>
          </a:prstGeom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8"/>
          <p:cNvSpPr/>
          <p:nvPr/>
        </p:nvSpPr>
        <p:spPr>
          <a:xfrm>
            <a:off x="40687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9"/>
          <p:cNvSpPr/>
          <p:nvPr/>
        </p:nvSpPr>
        <p:spPr>
          <a:xfrm>
            <a:off x="436572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0"/>
          <p:cNvSpPr/>
          <p:nvPr/>
        </p:nvSpPr>
        <p:spPr>
          <a:xfrm>
            <a:off x="466236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22"/>
          <p:cNvSpPr/>
          <p:nvPr/>
        </p:nvSpPr>
        <p:spPr>
          <a:xfrm>
            <a:off x="49579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3860640" y="1079640"/>
            <a:ext cx="1422720" cy="142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674280" y="333360"/>
            <a:ext cx="729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段想象惊艳另一段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"/>
          <p:cNvSpPr/>
          <p:nvPr/>
        </p:nvSpPr>
        <p:spPr>
          <a:xfrm>
            <a:off x="7588080" y="2492280"/>
            <a:ext cx="729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个梦唤醒另一个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29" name="Picture 4" descr="u=4233926744,4122306700&amp;fm=21&amp;gp=0"/>
          <p:cNvPicPr/>
          <p:nvPr/>
        </p:nvPicPr>
        <p:blipFill>
          <a:blip r:embed="rId1"/>
          <a:stretch/>
        </p:blipFill>
        <p:spPr>
          <a:xfrm>
            <a:off x="36360" y="-98280"/>
            <a:ext cx="9107640" cy="698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008122143538233_1"/>
          <p:cNvPicPr/>
          <p:nvPr/>
        </p:nvPicPr>
        <p:blipFill>
          <a:blip r:embed="rId2"/>
          <a:stretch/>
        </p:blipFill>
        <p:spPr>
          <a:xfrm>
            <a:off x="4068720" y="5229360"/>
            <a:ext cx="1906560" cy="1892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608733_131207080000_2"/>
          <p:cNvPicPr/>
          <p:nvPr/>
        </p:nvPicPr>
        <p:blipFill>
          <a:blip r:embed="rId3"/>
          <a:stretch/>
        </p:blipFill>
        <p:spPr>
          <a:xfrm>
            <a:off x="971640" y="5373720"/>
            <a:ext cx="12952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635280" y="24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线条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32N9B05H0-25052"/>
          <p:cNvPicPr/>
          <p:nvPr/>
        </p:nvPicPr>
        <p:blipFill>
          <a:blip r:embed="rId4"/>
          <a:stretch/>
        </p:blipFill>
        <p:spPr>
          <a:xfrm>
            <a:off x="6661080" y="4005360"/>
            <a:ext cx="2374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楷体_GB2312"/>
                <a:ea typeface="楷体_GB2312"/>
              </a:rPr>
              <a:t>一个梦唤醒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63640" y="1844280"/>
            <a:ext cx="280836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谁？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想象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40" name="Picture 4" descr="a0001673570"/>
          <p:cNvPicPr/>
          <p:nvPr/>
        </p:nvPicPr>
        <p:blipFill>
          <a:blip r:embed="rId1"/>
          <a:stretch/>
        </p:blipFill>
        <p:spPr>
          <a:xfrm>
            <a:off x="34920" y="-98280"/>
            <a:ext cx="571644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1300000342079125249730752658"/>
          <p:cNvPicPr/>
          <p:nvPr/>
        </p:nvPicPr>
        <p:blipFill>
          <a:blip r:embed="rId2"/>
          <a:stretch/>
        </p:blipFill>
        <p:spPr>
          <a:xfrm>
            <a:off x="5651640" y="2781360"/>
            <a:ext cx="2952720" cy="338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6012000" y="2205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谢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尔弗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0160" y="-385920"/>
            <a:ext cx="784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冰冻的梦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谢尔</a:t>
            </a:r>
            <a:r>
              <a:rPr b="1" lang="zh-CN" sz="3200" spc="-1" strike="noStrike">
                <a:solidFill>
                  <a:srgbClr val="940422"/>
                </a:solidFill>
                <a:latin typeface="楷体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希尔弗斯坦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 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656880" y="183996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要把昨天我做的梦，拿到冰箱里冷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到遥远的一天，我变成了白发苍苍的老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就把这个可爱的美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拿出来解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然后把它煮沸，坐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浸暖冰冷的双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合理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1080" y="1057320"/>
            <a:ext cx="206388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梦</a:t>
            </a:r>
            <a:endParaRPr b="0" lang="en-US" sz="4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411280" y="2421000"/>
            <a:ext cx="5400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幼圆"/>
                <a:ea typeface="楷体"/>
              </a:rPr>
              <a:t>       </a:t>
            </a: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076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253836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的梦是调皮的音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4073400"/>
            <a:ext cx="58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叶子的梦是一条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134136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2:18:08Z</dcterms:created>
  <dc:creator>Administrator</dc:creator>
  <dc:description/>
  <dc:language>en-US</dc:language>
  <cp:lastModifiedBy>tw</cp:lastModifiedBy>
  <dcterms:modified xsi:type="dcterms:W3CDTF">2015-10-19T17:15:10Z</dcterms:modified>
  <cp:revision>10</cp:revision>
  <dc:subject/>
  <dc:title>一个梦 唤醒 另一个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